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12.wmf" ContentType="image/x-wmf"/>
  <Override PartName="/ppt/media/image7.png" ContentType="image/png"/>
  <Override PartName="/ppt/media/image15.wmf" ContentType="image/x-wmf"/>
  <Override PartName="/ppt/media/image3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9.png" ContentType="image/png"/>
  <Override PartName="/ppt/media/image11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F6D-EE8D-45FC-857E-D39D5EE2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471-5FC8-4C87-AF00-23F04057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F4A-421D-4166-9420-A19598C8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21D-D729-4DB5-A1D7-5281482D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C144A-91B2-4969-886B-8993CD19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25BAE-CB87-4542-A736-49BD6CE2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D4DD2-AD73-46DC-B3DF-56E9555C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A93A2-F70D-4C4B-AF06-25BFDEAB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510E5-3F55-4A5C-8CC7-1B965506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852DF-E586-4A1E-B4CF-996EB82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9E6E7-8694-4D9B-8FB8-3898A98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70A-6D6C-4303-95DE-1D3046AE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BE5E2-B3EA-4DF2-8997-568ECC76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2DF5C-A85B-4837-946F-D185C9A0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5E8F6-BA41-4679-AEB4-4169774A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B945C-2103-48BC-BF19-1CD0F58D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FA7B0-91A7-4AEA-B6D8-5D9DF922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67A-403E-483B-B157-3A4A388E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3AF-6FE3-449D-9AE1-304403DF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AF6-3E3B-48C6-ACFE-A1CD6131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B3F-4276-44E2-81C8-72507796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8C2-8A08-4F5C-B971-D060CA3F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A86-FAEF-424D-B4C8-6889482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798-5BC8-4706-A914-FFDA8EC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DD53-9398-49D1-9668-EF5948D0E4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922A-A80C-4E51-8786-0A99B74B75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rp.la.asu.edu/clipart_dir/people2/people2_imag/painter.gif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Six Traits of Writ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ca_maze_01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1203480" cy="1486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1371600"/>
            <a:ext cx="1524240" cy="1101600"/>
          </a:xfrm>
          <a:prstGeom prst="rect">
            <a:avLst/>
          </a:prstGeom>
          <a:ln w="0">
            <a:noFill/>
          </a:ln>
        </p:spPr>
      </p:pic>
      <p:pic>
        <p:nvPicPr>
          <p:cNvPr id="127" name="man%20with%20binoculars" descr=""/>
          <p:cNvPicPr/>
          <p:nvPr/>
        </p:nvPicPr>
        <p:blipFill>
          <a:blip r:embed="rId4"/>
          <a:stretch/>
        </p:blipFill>
        <p:spPr>
          <a:xfrm>
            <a:off x="1752480" y="3200400"/>
            <a:ext cx="1600200" cy="1465200"/>
          </a:xfrm>
          <a:prstGeom prst="rect">
            <a:avLst/>
          </a:prstGeom>
          <a:ln w="0">
            <a:noFill/>
          </a:ln>
        </p:spPr>
      </p:pic>
      <p:pic>
        <p:nvPicPr>
          <p:cNvPr id="128" name="csh0060" descr=""/>
          <p:cNvPicPr/>
          <p:nvPr/>
        </p:nvPicPr>
        <p:blipFill>
          <a:blip r:embed="rId5"/>
          <a:stretch/>
        </p:blipFill>
        <p:spPr>
          <a:xfrm>
            <a:off x="7162920" y="2895480"/>
            <a:ext cx="151740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1955062" descr=""/>
          <p:cNvPicPr/>
          <p:nvPr/>
        </p:nvPicPr>
        <p:blipFill>
          <a:blip r:embed="rId6"/>
          <a:stretch/>
        </p:blipFill>
        <p:spPr>
          <a:xfrm>
            <a:off x="4724280" y="4734000"/>
            <a:ext cx="1776600" cy="21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676520"/>
            <a:ext cx="31240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 to the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1600200"/>
            <a:ext cx="25146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nt a Pi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50532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50532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your s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525780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ails over gener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95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ok the reader in with a strong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hook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1257120" cy="566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2133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up the 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hare&amp;tortoise_1_lg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1752840" cy="1039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3200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 your r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102-00149" descr=""/>
          <p:cNvPicPr/>
          <p:nvPr/>
        </p:nvPicPr>
        <p:blipFill>
          <a:blip r:embed="rId3"/>
          <a:stretch/>
        </p:blipFill>
        <p:spPr>
          <a:xfrm>
            <a:off x="2971800" y="312408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410080" y="243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Image1" descr=""/>
          <p:cNvPicPr/>
          <p:nvPr/>
        </p:nvPicPr>
        <p:blipFill>
          <a:blip r:embed="rId4"/>
          <a:stretch/>
        </p:blipFill>
        <p:spPr>
          <a:xfrm>
            <a:off x="6553080" y="2971800"/>
            <a:ext cx="125892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48320" y="5181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 idea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links" descr=""/>
          <p:cNvPicPr/>
          <p:nvPr/>
        </p:nvPicPr>
        <p:blipFill>
          <a:blip r:embed="rId5"/>
          <a:stretch/>
        </p:blipFill>
        <p:spPr>
          <a:xfrm>
            <a:off x="7543800" y="4876920"/>
            <a:ext cx="1076400" cy="1190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4495680"/>
            <a:ext cx="396252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ve the reader with something to remember. End with 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562720"/>
            <a:ext cx="1943280" cy="914400"/>
          </a:xfrm>
          <a:prstGeom prst="irregularSeal2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Vo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066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lug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1571760" cy="1400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48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YO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1362240" cy="12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29200" y="1600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istockphoto_740649_scientist" descr=""/>
          <p:cNvPicPr/>
          <p:nvPr/>
        </p:nvPicPr>
        <p:blipFill>
          <a:blip r:embed="rId3"/>
          <a:stretch/>
        </p:blipFill>
        <p:spPr>
          <a:xfrm>
            <a:off x="5486400" y="2286000"/>
            <a:ext cx="1257480" cy="1257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4648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live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Excited" descr=""/>
          <p:cNvPicPr/>
          <p:nvPr/>
        </p:nvPicPr>
        <p:blipFill>
          <a:blip r:embed="rId4"/>
          <a:stretch/>
        </p:blipFill>
        <p:spPr>
          <a:xfrm>
            <a:off x="68580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05320" y="4648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 with your r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7146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2924280" cy="212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1371600"/>
            <a:ext cx="1542960" cy="1695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2819520" cy="2076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676520" y="4572000"/>
            <a:ext cx="1942920" cy="1847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410080" y="4191120"/>
            <a:ext cx="24768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entence Flu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543280" cy="1419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419200" cy="1104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1552680" cy="2009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133720" y="3276720"/>
            <a:ext cx="3905280" cy="21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629400" y="2438280"/>
            <a:ext cx="2257560" cy="2067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2705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ventions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77120" y="914400"/>
            <a:ext cx="2447640" cy="2076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2486160" cy="2257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971800" y="1371600"/>
            <a:ext cx="317196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04920" y="4191120"/>
            <a:ext cx="2466720" cy="1971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rcRect l="0" t="0" r="50092" b="0"/>
          <a:stretch/>
        </p:blipFill>
        <p:spPr>
          <a:xfrm>
            <a:off x="3124080" y="3657600"/>
            <a:ext cx="27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6019920" y="3886200"/>
            <a:ext cx="25621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0:45:38Z</dcterms:created>
  <dc:creator>Administrator</dc:creator>
  <dc:description/>
  <dc:language>en-US</dc:language>
  <cp:lastModifiedBy>hunterdon central</cp:lastModifiedBy>
  <dcterms:modified xsi:type="dcterms:W3CDTF">2010-07-26T02:13:30Z</dcterms:modified>
  <cp:revision>10</cp:revision>
  <dc:subject/>
  <dc:title>The Six Traits of Writing</dc:title>
</cp:coreProperties>
</file>